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F680-8624-4EB0-AF5D-B49D5F801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84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A85D-E5A3-4A91-B9C9-868F29CC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40AB-8A6F-41C0-9B0A-E82936A17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3C5A-7093-4E5D-BC9B-2CBA422C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243B-7078-484E-A020-5F001FA2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495F-3E6E-48A6-9F3F-BBC1659A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0C9F-FF44-49E2-AA03-266629C3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14A9-3A09-449F-92BB-F32A5601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E9E6-4262-439F-83B3-153947B7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FA05-4613-4AF9-8C11-173113E6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D6F9-1F0B-42A5-ACEB-E1717E49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5FC4-2CE0-4269-84B4-8DC6A186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F56F-C4B0-46F1-BE31-A72698BE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84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BC00-FEC1-4458-B280-9706C759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284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6731-2E60-4F78-B411-5EBE84B2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BF1E-F5B5-4035-A457-5FBA04A31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FF20-FFA7-4E5D-8110-0242ABE0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0E0F-7072-4139-853C-B634EB01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3D63-4C30-48A0-9A30-F3B23F7D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674B-1301-4D1C-98C1-01C02B08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E9FD-3495-493C-BD1E-0A95854E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C03F-0F16-4E38-9BE2-AFE34EA2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AC08-369C-48A6-ABAA-74D8B042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84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7637-D1A6-40BB-A1D7-D500356F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601"/>
              </a:spcBef>
              <a:buClr>
                <a:srgbClr val="afbf3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BF1C-CED9-4673-A6EF-459253CB5161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324480"/>
            <a:ext cx="8229600" cy="0"/>
          </a:xfrm>
          <a:prstGeom prst="line">
            <a:avLst/>
          </a:prstGeom>
          <a:ln w="1908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F12D-C9D2-4F43-BF0F-A8035CBC24C7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00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349"/>
              </a:spcBef>
              <a:buClr>
                <a:srgbClr val="afbf39"/>
              </a:buClr>
              <a:buSzPct val="6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Times New Roman"/>
              </a:rPr>
              <a:t>Chapter 4 </a:t>
            </a:r>
            <a:br>
              <a:rPr sz="3600"/>
            </a:br>
            <a:br>
              <a:rPr sz="2400"/>
            </a:br>
            <a:r>
              <a:rPr b="1" lang="en-US" sz="3600" spc="-1" strike="noStrike">
                <a:solidFill>
                  <a:srgbClr val="006633"/>
                </a:solidFill>
                <a:latin typeface="Times New Roman"/>
              </a:rPr>
              <a:t>Informed Search and Exploratio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Optimality of A*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809880" y="1054080"/>
                <a:ext cx="21337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9" name=""/>
          <p:cNvGraphicFramePr/>
          <p:nvPr/>
        </p:nvGraphicFramePr>
        <p:xfrm>
          <a:off x="3657600" y="2895480"/>
          <a:ext cx="5029200" cy="31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895480"/>
                    <a:ext cx="502920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7200" y="990720"/>
            <a:ext cx="80773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Consiste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monotoni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is any successor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eneral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triangle inequal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and the go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nsistent heuristic is also admi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* using Graph-Search i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optim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i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consis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values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 along any path are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nondecrea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041480" y="4925880"/>
                <a:ext cx="20732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3" name=""/>
          <p:cNvGraphicFramePr/>
          <p:nvPr/>
        </p:nvGraphicFramePr>
        <p:xfrm>
          <a:off x="1295280" y="2895480"/>
          <a:ext cx="167976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895480"/>
                    <a:ext cx="16797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622520" y="5383080"/>
                <a:ext cx="256860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595520" y="5840280"/>
                <a:ext cx="21128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  <a:ea typeface="宋体"/>
              </a:rPr>
              <a:t>Properties of A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990720"/>
            <a:ext cx="8077320" cy="52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ppo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* is the cost of the optimal solution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* expands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nodes 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 &lt;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* might expand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so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of nodes 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* on the “goal contou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* will expand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nodes 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 &gt;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*, which are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prun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Prun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: eliminating possibilities from consideration without exam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* i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optimally effici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for any given heuristic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other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optim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lgorithm is guaranteed to expand fewer nodes than A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n algorithm might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mi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he optimal solution if it does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expand all nodes 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 &lt;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* is 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ime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xponential number of nodes within the goal cont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pace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eeps all generated nodes 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uns out of space long before runs out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宋体"/>
              </a:rPr>
              <a:t>Memory-bounded heuristic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977760"/>
            <a:ext cx="8077320" cy="52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terative-deepening A* (IDA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use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value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 as the cut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cursive best-first search (RBF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places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value of each node along the path with the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b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value of its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child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members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value of the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b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leaf in the “forgotten” subtree so that it can reexpand it later if necess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s efficient than IDA* but generates excessive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changes mi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: go back to pick up the second-best path due to the extension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value increased) of current best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optim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 is admi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spa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omplexity i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ti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omplexity depends on the accuracy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 and how often the current best path is chan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ponential time complexity of Both IDA* and RBF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annot check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repeat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tates other than those on the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current pa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when search on Graphs – Should have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used more memo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(to store the nodes visited)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609480" y="1371600"/>
          <a:ext cx="769644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6964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3121200" y="76212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: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Straight line dista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heuris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494080" y="762120"/>
                <a:ext cx="70632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L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RBFS exampl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28600" y="1433520"/>
            <a:ext cx="8686800" cy="2709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77840" y="1447920"/>
            <a:ext cx="8763120" cy="26794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77840" y="1434960"/>
            <a:ext cx="8775720" cy="339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宋体"/>
              </a:rPr>
              <a:t>Memory-bounded heuristic search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1206360"/>
            <a:ext cx="807732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MA* – Simplified MA* (Memory-bounded A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xpands the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b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leaf node until memory is f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n drops the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wor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leaf node – the one has the highes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generates the subtree only when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all other path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have been shown to look worse than the path it has forgot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comple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optim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if there is a solution reach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ight be the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best general-purpo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lgorithm for finding optimal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f there is no way to balance the trade off between time an memory,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drop the optimality requir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宋体"/>
              </a:rPr>
              <a:t>(Admissible) Heuristic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496728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?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57400" y="542448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?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3886200" cy="1943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752480" y="3824280"/>
                <a:ext cx="6858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2514600" y="38656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the number of misplaced t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727280" y="4281480"/>
                <a:ext cx="7365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2514600" y="43210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total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Manhatt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(city block) d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13080" y="495288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7 tiles are out of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76440" y="541008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4+0+3+3+1+0+2+1 = 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宋体"/>
              </a:rPr>
              <a:t>Effect of heuristic accu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9907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Effect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ranching fact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otal # of nodes generated by A* i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the solution depth i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*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hat a uniform tree of depth d containing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+1 nodes would h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ell-designed heuristic would have a value close to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is better tha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based on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Do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ominate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if                    for any nod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* using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will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nev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expand more nodes than A* using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very nod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with                  will be expan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larg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he better, as long as it does not overestimat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438280" y="2013120"/>
                <a:ext cx="297180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/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/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/>
                            </m:sSup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281400" y="3809880"/>
                <a:ext cx="106200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348000" y="4419720"/>
                <a:ext cx="83016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&lt;</m:t>
                    </m:r>
                    <m:sSup>
                      <m:e>
                        <m:r>
                          <m:t xml:space="preserve">C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676520" y="4800600"/>
                <a:ext cx="192564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&lt;</m:t>
                    </m:r>
                    <m:sSup>
                      <m:e>
                        <m:r>
                          <m:t xml:space="preserve">C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733920" y="4849920"/>
                <a:ext cx="249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114800" y="4800600"/>
                <a:ext cx="136044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&lt;</m:t>
                    </m:r>
                    <m:sSup>
                      <m:e>
                        <m:r>
                          <m:t xml:space="preserve">C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733920" y="5257800"/>
                <a:ext cx="249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114800" y="5181480"/>
                <a:ext cx="20239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&lt;</m:t>
                    </m:r>
                    <m:sSup>
                      <m:e>
                        <m:r>
                          <m:t xml:space="preserve">C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宋体"/>
              </a:rPr>
              <a:t>Inventing admissible heuristic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990720"/>
            <a:ext cx="83822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re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solu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o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relax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simplified) version of the puzz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f the rules of the 8-puzze are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laxed so that a tie can move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any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the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gives the shortest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f the rules are relaxed so that a tile can move to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any adjacent squa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n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ives the shortest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249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Relaxed probl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A problem with fewer restrictions on the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dmissible heuristics for the original problem can be derived from the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optim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(exact) solution to a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relax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Key po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: the optimal solution cost of a relaxed problem is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no grea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han the optimal solution cost of the original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ich should we choose if none of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…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ominates any of the other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e can have the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best of a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worlds, i.e., use whichever function is most accurate on the current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Subproblem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dmissible heuristics for the original problem can also be derived from the solution cost of the subprobl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Learning from experience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330720" y="4879800"/>
                <a:ext cx="219060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宋体"/>
              </a:rPr>
              <a:t>Local search algorithms and 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1193760"/>
            <a:ext cx="822960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ystematic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o find (or given) th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go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to find th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pa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o that go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cal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pa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o the goal is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irreleva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e.g.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-queens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tate space = set of “complete” configu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keep a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sing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“current” state and try to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impro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t, e.g., move to its neighb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dvanta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use very little (constant)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ind reasonable solutions in large or infinite (continuous) state sp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pure)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 Optimiz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robl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o find the best state (optimal configuration ) based on an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objective fun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e.g. reproductive fitness – Darwinian, no goal test and path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Outlin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901800"/>
            <a:ext cx="70866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formed (Heuristic) search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Greedy) Best-first 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* 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Admissible) Heuristic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laxed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b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cal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ill-climbing 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imulated anneal 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ocal beam 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enetic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nline search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nline local sear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arning in online 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277920"/>
            <a:ext cx="80010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宋体"/>
              </a:rPr>
              <a:t>Local search – exam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27120" y="1523880"/>
            <a:ext cx="7907400" cy="33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7920"/>
            <a:ext cx="8458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宋体"/>
              </a:rPr>
              <a:t>Local search – state space landsc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990720" y="1630440"/>
            <a:ext cx="6858000" cy="38304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28600" y="1066680"/>
            <a:ext cx="8610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eleva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 value of the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  <a:ea typeface="宋体"/>
              </a:rPr>
              <a:t>objective fun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or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  <a:ea typeface="宋体"/>
              </a:rPr>
              <a:t>heuristic cost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34320" y="40384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lobal min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477120" y="4343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724280" y="1447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7848720" y="14479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193356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heuristic cost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5486400"/>
            <a:ext cx="8610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 complet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ocal search algorithm finds a solution if one 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280" y="5867280"/>
            <a:ext cx="8610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 optima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lgorithm finds a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glob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inimum or max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04920" y="1143000"/>
            <a:ext cx="8610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es in the direction of increasing value until a “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pea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urrent node data structure only records th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its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objectiv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either remember th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histo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or look beyond th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immedi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neighb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ke climbing Mount Everest in thick fog with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 amne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277920"/>
            <a:ext cx="8458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宋体"/>
              </a:rPr>
              <a:t>Hill-climbing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066680" y="2743200"/>
            <a:ext cx="7086600" cy="29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8600" y="10666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mplete-state formulation for 8-qu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uccessor function returns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all possi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tates generated by moving a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sing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queen to another square in the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s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olumn (8 x 7 = 56 successors for each st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heuristic cost fun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is the number of pairs of queens that are attacking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277920"/>
            <a:ext cx="8458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宋体"/>
              </a:rPr>
              <a:t>Hill-climbing search -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465200" y="2743200"/>
            <a:ext cx="2725920" cy="27432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960800" y="2743200"/>
            <a:ext cx="2735280" cy="27432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143000" y="56530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est moves reduc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= 17 to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=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56530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ocal minimum 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宋体"/>
              </a:rPr>
              <a:t>Hill-climbing search – greedy local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1041480"/>
            <a:ext cx="8153280" cy="14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ill climbing, the greedy local search, often gets stu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Local maxi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a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pea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hat is higher than each of its neighboring states, but lower than the global max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Rid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a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seque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of local maxima that is difficult to navi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104840" y="2584440"/>
            <a:ext cx="2324160" cy="22543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04920" y="4927680"/>
            <a:ext cx="86104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Platea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a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fl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rea of the state space landsc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flat local maximu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: no uphill exit ex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shoul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: possible to make prog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n only solve 14% of 8-queen instance but fast (4 steps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3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038480" y="2565360"/>
            <a:ext cx="4267440" cy="23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宋体"/>
              </a:rPr>
              <a:t>Hill-climbing search – impr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927000"/>
            <a:ext cx="853416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llow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sideways mo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 with hope that the plateau is a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uld stuck in an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infini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oop when it reaches a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flat local max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mits the number of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consecut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ideways mo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n solve 94% of 8-queen instances but slow (21 steps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64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1960" y="2374920"/>
            <a:ext cx="8534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ar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tochastic hill climb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hooses at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rand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probabil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of selection depends on the steep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rst choice hill climb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random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generates successors to find a better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ll the hill climbing algorithms discussed so far are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in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ail to find a goal when one exists because they get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stuck on local max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andom-restart hill climb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nducts a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seri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of hill-climbing searches; randomly generated initial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ave to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give 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he global optim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andscape consists of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a large amount of porcupin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on a flat fl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P-hard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宋体"/>
              </a:rPr>
              <a:t>Simulated annealing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121932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mbine hill climbing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efficie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with random walk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completen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anneal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harden metals by heating metals to a high temperature and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gradual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ooling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etting a ping-pong ball into th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deepe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revice in a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hump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shak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he surface to get the ball out of the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loc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min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not too har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o dislodge it from the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glob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simulated anneal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 by shaking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har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(at a high temperature) and then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gradual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redu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he intensity of the shaking (lower the tempera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scape the local minima by allowing some “bad” mo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ut gradually reduce their size and 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宋体"/>
              </a:rPr>
              <a:t>Simulated annealing search -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5943600" cy="33382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04920" y="4343400"/>
            <a:ext cx="83055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lways accept the good mo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 probability to accept a bad m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ecreases exponentially with the “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badne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” of the 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ecreases exponentially with the “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temperat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”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(decrea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nds a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global optim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with probability approaching 1 if th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schedu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ow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slowly en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4361040" y="4432320"/>
                <a:ext cx="6048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6730920" y="5067360"/>
                <a:ext cx="6048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宋体"/>
              </a:rPr>
              <a:t>Local beam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12193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Local beam sear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keeps track of </a:t>
            </a:r>
            <a:r>
              <a:rPr b="0" i="1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ates rather than just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enerates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he successors of al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lects the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k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 b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uccessors from the complete list and repe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quickly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abandons unfruitfu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earches and moves to the space where the most progress is being ma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“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Come over here, the grass is greener!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lack of divers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mong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stochastic beam sear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choos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uccessors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at rand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with the probability of choosing a given successor having an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increas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tural selection: th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successo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offspring) if a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organism) populate the next generation according to is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fitnes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宋体"/>
              </a:rPr>
              <a:t>Genetic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9907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Genetic Algorithm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GA): successor states are generated by combining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tw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arents sta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popul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: s set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andomly generated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ach state, called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individu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is represented as a string over a finite alphabet, e.g. a string of 0s and 1s;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8-quee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: 24 bits or 8 digits for their pos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7848720" cy="23428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8600" y="50292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fitne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(evaluation)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: return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hig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values for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bet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tat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.g., the number of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nonattacking pai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of que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random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hoosing two pairs for reproducing based on the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probabil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proportional to fitness score;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hoosing the similar ones too ear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Informed search strategie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990720"/>
            <a:ext cx="74674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formed sear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se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problem-specif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knowledge beyond the problem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nds solution more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efficient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han the uninformed 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est-fir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ses an </a:t>
            </a:r>
            <a:r>
              <a:rPr b="0" i="1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evaluation fun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for each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.g., Measures distance to the goal – lowest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Implement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frin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is a queue sorted in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increas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order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n we really expand the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be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ode fir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o! only the one that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appea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o be best based 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heuristic fun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estimat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ost of the cheapest path from nod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o a goal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pecific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reedy best-first 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* 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宋体"/>
              </a:rPr>
              <a:t>Genetic algorithms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85800" y="2228760"/>
            <a:ext cx="7848720" cy="23432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6320" y="487692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schem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substring in which some of the positions can be left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unspec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instanc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: strings that match the 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A works best when schemas correspond to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meaningfu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omponents of a solu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320" y="1066680"/>
            <a:ext cx="8762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crossov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point is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random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hosen from the positions in the 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arger steps in the state space early and smaller steps l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ach location is subject to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rand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mut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with a small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Greedy best-first search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90720"/>
            <a:ext cx="74674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pand the node that i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close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o the go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Straight line dist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heur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09480" y="2057400"/>
          <a:ext cx="769644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76964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739880" y="1341360"/>
                <a:ext cx="137160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L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Greedy best-first search exampl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19720" y="1546200"/>
            <a:ext cx="904680" cy="399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057400" y="1488960"/>
            <a:ext cx="5943600" cy="1155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5800" y="1488960"/>
            <a:ext cx="7391520" cy="1933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85800" y="1488960"/>
            <a:ext cx="7467480" cy="270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  <a:ea typeface="宋体"/>
              </a:rPr>
              <a:t>Properties of Greedy best-first sear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143000"/>
            <a:ext cx="8610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Comple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Optim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Sp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290988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295280" y="1538280"/>
            <a:ext cx="7315200" cy="811080"/>
            <a:chOff x="1295280" y="1538280"/>
            <a:chExt cx="7315200" cy="811080"/>
          </a:xfrm>
        </p:grpSpPr>
        <p:sp>
          <p:nvSpPr>
            <p:cNvPr id="105" name=""/>
            <p:cNvSpPr/>
            <p:nvPr/>
          </p:nvSpPr>
          <p:spPr>
            <a:xfrm>
              <a:off x="1295280" y="1538280"/>
              <a:ext cx="73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o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– can get stuck in loops, e.g.,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asi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–&gt;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eam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–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&gt;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asi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–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&gt;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eam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95280" y="1981080"/>
              <a:ext cx="73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Ye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– complete in finite states with repeated-state check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371600" y="4114800"/>
            <a:ext cx="6934320" cy="368280"/>
            <a:chOff x="1371600" y="4114800"/>
            <a:chExt cx="6934320" cy="368280"/>
          </a:xfrm>
        </p:grpSpPr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1371600" y="4114800"/>
                  <a:ext cx="68580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9" name=""/>
            <p:cNvSpPr/>
            <p:nvPr/>
          </p:nvSpPr>
          <p:spPr>
            <a:xfrm>
              <a:off x="1981080" y="4114800"/>
              <a:ext cx="632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, but a good heuristic function can give dramatic improv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371600" y="5257800"/>
            <a:ext cx="3733920" cy="368280"/>
            <a:chOff x="1371600" y="5257800"/>
            <a:chExt cx="3733920" cy="36828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1371600" y="5257800"/>
                  <a:ext cx="68580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1981080" y="5257800"/>
              <a:ext cx="312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–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keeps all nodes in 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A* search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990720"/>
            <a:ext cx="80773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valuation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  =  cost to reach the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 = estimated cost to the goal from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 = estimated total cost of path through n to the go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n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admissi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optimistic) heur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never overestimat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he cost to reach the go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stimates the cost of solving the problem is less than it actually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.g.,                never overestimates the actual road dist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* using Tree-Search i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optim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i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admi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uld get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suboptim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olutions using Graph-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ight discard the optimal path to a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repeat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tate if it is not the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fir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one gener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simple solution is to discard the more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expensi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of any two paths found to the same node (extra memo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112840" y="3505320"/>
                <a:ext cx="70668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L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609480" y="1371600"/>
          <a:ext cx="769644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6964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3121200" y="76212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: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Straight line dista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heuris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494080" y="762120"/>
                <a:ext cx="70632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L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A* search exampl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0" y="1262160"/>
            <a:ext cx="1066680" cy="468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994040" y="1271520"/>
            <a:ext cx="6629400" cy="1154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80880" y="1257480"/>
            <a:ext cx="8305920" cy="1854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216000" y="1270080"/>
            <a:ext cx="8572320" cy="2624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241200" y="1270080"/>
            <a:ext cx="8521920" cy="2612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241200" y="1270080"/>
            <a:ext cx="8534520" cy="33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15:15:18Z</dcterms:created>
  <dc:creator/>
  <dc:description/>
  <dc:language>en-US</dc:language>
  <cp:lastModifiedBy>ap</cp:lastModifiedBy>
  <dcterms:modified xsi:type="dcterms:W3CDTF">2003-09-11T16:28:01Z</dcterms:modified>
  <cp:revision>662</cp:revision>
  <dc:subject/>
  <dc:title>Introduction to AI</dc:title>
</cp:coreProperties>
</file>